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B21-D357-4539-9BF1-0EA2A423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3DC-4CD8-46C6-B06E-4F5DB350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DAA-199D-40AB-9F3A-999F31C1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848-16B9-4B1C-BFAF-1A9BFFB9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484C8-A67C-4C13-8CEF-A7A1C6C9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5B91B-7653-458A-BFE8-E7A32E5A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36815-AB9A-4A77-88A4-B57BE444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F1C94-1A40-4B5A-A522-3DDF09FD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2689D-50FD-4B2D-8CAE-991316BB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6BF7B-348B-41BC-B6BF-C4FA8407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62871-F223-49C8-9D99-BDBF9A5A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C5E-4891-442D-8FE1-0412D41F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527A8-5ED6-4C00-A32E-725BA33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C0E48-C37B-4BB4-A7E6-B29DCDC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FB1DA-E5AC-40A8-B4FC-56C04F2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6B72B-360F-4E25-A000-2D57A015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D3BD9-C234-44A2-B9C0-E800BD98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1C472-DF35-4B6F-B04D-11EC335E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AFC1-B97C-4C04-92E9-B0791337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7EDA-686F-4C00-8FB3-A66954B8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E6A7-1880-49FF-A258-1436220B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9387-7082-40A1-902A-8159A477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85C-3CC5-43C5-A506-5913B574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FAB4-C055-43CD-93B5-E0FEA35C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1D49-FD3B-48C9-9D43-8E6AA82F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621F-1501-4841-B178-2474F870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C1CF-FB7E-4ADA-BBBE-0544354C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EF1D6-5DF2-4710-9C34-ED5BD512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2D99-49A6-4586-B7F8-0B877305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D340-BDBC-4E24-9E0D-388ECAE6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9F50A-EEB2-43C6-8F7B-E8E50D28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F00C-B69B-4EC7-B23B-3090F60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0B95F-500E-414C-945A-7176CE72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38E-5AE1-4172-8E5B-EB41BD04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6702-36B6-418F-9342-D3A1512E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3F01-E8B8-4E36-9846-22393B3A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77AD7-0EFD-4F52-86D8-08CDF587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EE81-5204-4D58-9241-1F9DF6E7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965B-2A67-49EE-864E-4B872E7E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A04F-4131-4AFF-ABB3-CCC97DF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90DF-883B-4BC3-8E74-FB3B4207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E590-61FD-47C8-B673-63710946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DC5B-354C-4734-BC41-F462F4D6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DC791-1744-43C4-8B2C-C57DEB54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1CA-F252-4B10-B1CD-5E0AD8F8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D566F-6D2E-42B9-B17D-1D1DB4B3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F8367-E4BD-412D-A75B-60F78DDC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6EAB-CF2B-4D1E-9785-4A24CE78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3D98C-3245-4E1C-94E9-D1A28C0A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7D17-C1B7-471E-BA79-A55ED97C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33FCF-A69D-4B6F-855D-B845FD9F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8540A-15AF-4BCF-99E4-AB4230F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E03A4-5AB4-432B-85A5-E06554B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AA12F-E8CD-464C-A230-0D2C8986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0E7B0-115A-44B7-81B3-91105BCB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80C-1B7A-4284-9735-E4371678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3B568-7F92-43BC-B5B3-43041B19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DB0CD-701F-4917-A70C-F2550F02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3746B-DD35-455A-89F7-5D90C71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68DB-756A-4DCA-901B-90786D63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609D4-3ED4-4F47-A970-B830248B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AB1D5-A6CF-4232-A00B-C5BF2EE3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7771-61B0-4F1C-A499-69F2FE7B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AACBE-60F8-44C7-89F9-4102879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AC20B-5FCC-40C5-8C67-437880C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79E98-393E-4015-A066-B4F28D9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4BF-D66D-4DA7-990A-103D0743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A281C-206C-489A-AA0B-C3D95856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F670D-1A8E-4CF9-ABA9-C631FF42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E957-F725-40C2-99B0-518A4106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01B41-A6B6-4923-8172-8BC31A3B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027DB-1DE2-4D04-988F-59F3C038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B6316-91E1-4FCE-9234-683289AE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F031C-339D-4AD4-A1C0-25594A97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EC8D2-DDD7-462E-8B7B-359BB66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BA6A5-4D8C-4F92-B28E-1C4D30C6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75D42-11FD-4D88-A983-4357B36D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19E-F28F-4536-BD8B-4761D905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841D2-9FA9-43C4-A275-AAF7663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3959-05D1-4CB7-9D21-7DD1DABA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4E44A-BF9C-46E1-A336-31B01A63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F6102-2075-4B7F-B72D-21430BDB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2F6BB-A7F3-40BA-8B5C-5EA76A62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A435F-DC7D-42ED-95C3-34FA7013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5A53B-6AD9-4277-9E9B-D1E78C3E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045F2-5B56-4E2D-83B2-2A8F6DC9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B767F-9EC6-4C2D-8B23-935A91F2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27729-474D-4385-8231-7D0EAFE3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8F1-93A6-43D0-9ACF-C365B767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2A24-9F09-4A16-ACB9-3D0EE5BF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71839-5086-44CF-ADA8-41F5551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DC1AB-F94A-4795-AE6E-198BD6E4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CDDF1-9800-4954-A22A-10F7E7B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3E8A1-C8BB-4147-8F01-6009E3C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823EB-4803-4B0A-9256-25B6BB22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99F5D-CB1C-4295-8716-5B114A6D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470CA-567C-4F1A-BA1A-46C103F386F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DBEDB-383A-414B-9BAF-7226453FB78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608CC-B719-4009-A093-C920FC66B2E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37D51-9B5B-4E50-B7FA-452BFE6940E8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AEAC0-B7D8-479E-84CC-EEC51C00C8F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B1710-2D41-45D4-8E92-63D39AF4C33E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F98E6-F4B3-4215-A601-CBB7383A83F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F94F0-CD3B-4AE0-9E0B-8F4BAB92FCF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431F7-53DE-40AC-BF8E-7E173984373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8E566-36CC-4C0F-A00B-FD93DD034C0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95901-8EC7-4E4C-BD14-B4E6B7379AD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321B2-3940-4D1F-BB0E-11029B25E38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D009A-2074-4928-B9FD-F876BCDCDE4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7AC6F-C491-482E-B1E7-67C91DF3AB9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AD899-7E9E-4CBC-9A97-490DE888AAB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97DD6-47CC-46A8-A987-F3A5F20324F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Strategies for Studying History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alisto MT"/>
              </a:rPr>
              <a:t>Reading Skills to Make Understanding Easie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1641600" y="3225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Preview Chapters Before You Read!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chapter titl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udy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Before You Read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sec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eview time line and note the years cover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Consider important events that happened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udy the map to know where important events took pla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Preview Lessons Before You Read!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udy the information under the heading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Main Idea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eview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Terms and Names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is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the paragraph under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Build on What You Know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otice the structure of the lesson (Red headings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heck, know and understand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Words to Know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Use Active Reading Strategies as You Read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ook for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Essential Ques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48640" indent="-280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Finding the answer will guide your reading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Study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the captions and any boxed featur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Visualize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the people, places and events you read abou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48640" indent="-280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Study the pictures, maps and other illustration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68200" indent="-268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to build your vocabulary – Use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Vocabulary Strategy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n the margi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Review and Summarize What You Have Read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nswer the review questions at the end of each section of the less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read the main headings for a review of what you just rea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udy any charts, graphs or maps – this media contains valuable information about your less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mplete all questions in the </a:t>
            </a: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Lesson Review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95280" y="108000"/>
            <a:ext cx="9104400" cy="1681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0000"/>
                </a:solidFill>
                <a:latin typeface="Calisto MT"/>
              </a:rPr>
              <a:t>A Summary of the Important Ideas for Studying History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7240" indent="-2372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ach chapter begins with a two-page chapter opener.  Study these pages to help you get ready to read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37240" indent="-2372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ach chapter consists of either three or four lessons.  These lessons focus on specific time periods or particular lesson themes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37240" indent="-2372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ead one lesson at a time, from beginning to the end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37240" indent="-2372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hen you finish reading a lesson, review and  summarize what you have read.  If necessary go back and reread information that was not clear the first time through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3:38:04Z</dcterms:created>
  <dc:creator>Debby/Caven</dc:creator>
  <dc:description/>
  <dc:language>en-US</dc:language>
  <cp:lastModifiedBy>Debby/Caven</cp:lastModifiedBy>
  <dcterms:modified xsi:type="dcterms:W3CDTF">2009-09-03T23:51:23Z</dcterms:modified>
  <cp:revision>14</cp:revision>
  <dc:subject/>
  <dc:title>Strategies for Studying History</dc:title>
</cp:coreProperties>
</file>